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300-9A8A-46E7-BCAC-68E83379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8288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440" y="3814560"/>
            <a:ext cx="8288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B24-38D5-4CA2-920C-8F36BFBB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672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9440" y="381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6720" y="381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FB1-0813-4FA6-BD76-738E1D00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2040" y="228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228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9440" y="381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2040" y="381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381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FD9-CF8B-4573-B5D5-BCAA51A0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989C-A4B0-4710-AA5F-5EC09047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9440" y="2284560"/>
            <a:ext cx="8288280" cy="29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5D97-71B4-42AA-A34B-E18901EE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828828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5846-1E43-40A4-A854-391FB5A5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40446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6720" y="2284560"/>
            <a:ext cx="40446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3EE4-19DE-4946-8155-240E4B82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9E0B-D55B-4958-A9A7-A4D161A8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29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19A3-6988-48BC-A151-B46D98C7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720" y="2284560"/>
            <a:ext cx="40446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9440" y="381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9584-58D4-4CE6-9248-AAE4378B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9440" y="2284560"/>
            <a:ext cx="8288280" cy="29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5FD-1B22-4B2D-B6B0-00D98272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40446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672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6720" y="381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EE9A-D75B-49EC-AAD5-B5D9BD50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672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440" y="3814560"/>
            <a:ext cx="8288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AF15-730B-458B-8DC0-08D68573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8288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440" y="3814560"/>
            <a:ext cx="8288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7AD1-BE28-4F32-8B77-2D2D7EDE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672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440" y="381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6720" y="381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A24A-FFEE-44D7-9E25-648397A9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2040" y="228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4280" y="228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440" y="381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2040" y="381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4280" y="3814560"/>
            <a:ext cx="26686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8AA2-271F-417A-8CC9-C0B0E6AB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828828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C4EF-B220-4B0E-ACFB-994B9327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40446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6720" y="2284560"/>
            <a:ext cx="40446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D70F-90EC-464B-96B8-5C530E2A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B41E-529C-4244-9254-4DDBBBB4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29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418A-8B2B-4611-BA6C-D128E0E6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6720" y="2284560"/>
            <a:ext cx="40446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9440" y="381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905-8A66-4F5F-B465-349B5289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40446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672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6720" y="381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F22-4E3A-4E15-AFFB-E174FF40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944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6720" y="2284560"/>
            <a:ext cx="4044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440" y="3814560"/>
            <a:ext cx="82882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E64-D5DA-49D0-B503-0D658BE6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9440" y="2284560"/>
            <a:ext cx="828828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4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1" marL="639000" indent="-245520">
              <a:spcBef>
                <a:spcPts val="649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2" marL="982800" indent="-196560">
              <a:spcBef>
                <a:spcPts val="649"/>
              </a:spcBef>
              <a:buClr>
                <a:srgbClr val="77934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3" marL="1375920" indent="-196560">
              <a:spcBef>
                <a:spcPts val="649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4" marL="1769040" indent="-196560">
              <a:spcBef>
                <a:spcPts val="649"/>
              </a:spcBef>
              <a:buClr>
                <a:srgbClr val="4460a5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5" marL="1769040" indent="-196560">
              <a:spcBef>
                <a:spcPts val="64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6" marL="1769040" indent="-196560">
              <a:spcBef>
                <a:spcPts val="64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58585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B8DB-D40A-4D4E-86E4-036EF0BE1FB6}" type="datetime">
              <a:rPr b="0" lang="fi-FI" sz="1000" spc="-1" strike="noStrike">
                <a:solidFill>
                  <a:srgbClr val="58585a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368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58585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58585a"/>
                </a:solidFill>
                <a:latin typeface="Times New Roman"/>
              </a:rPr>
              <a:t>Tiina Kämäräinen, Lapin E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58585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DCF9-34F6-4E85-9B1B-4EE534085220}" type="slidenum">
              <a:rPr b="0" lang="fi-FI" sz="1000" spc="-1" strike="noStrike">
                <a:solidFill>
                  <a:srgbClr val="58585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ELY_su+ru+eng"/>
          <p:cNvPicPr/>
          <p:nvPr/>
        </p:nvPicPr>
        <p:blipFill>
          <a:blip r:embed="rId2"/>
          <a:stretch/>
        </p:blipFill>
        <p:spPr>
          <a:xfrm>
            <a:off x="284040" y="284040"/>
            <a:ext cx="4703760" cy="70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ELY_su+ru+eng_värilliselle pohjalle"/>
          <p:cNvPicPr/>
          <p:nvPr/>
        </p:nvPicPr>
        <p:blipFill>
          <a:blip r:embed="rId3"/>
          <a:stretch/>
        </p:blipFill>
        <p:spPr>
          <a:xfrm>
            <a:off x="284040" y="284040"/>
            <a:ext cx="4703760" cy="701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9440" y="2284560"/>
            <a:ext cx="828828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4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1" marL="639000" indent="-245520">
              <a:spcBef>
                <a:spcPts val="649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2" marL="982800" indent="-196560">
              <a:spcBef>
                <a:spcPts val="649"/>
              </a:spcBef>
              <a:buClr>
                <a:srgbClr val="77934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3" marL="1375920" indent="-196560">
              <a:spcBef>
                <a:spcPts val="649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4" marL="1769040" indent="-196560">
              <a:spcBef>
                <a:spcPts val="649"/>
              </a:spcBef>
              <a:buClr>
                <a:srgbClr val="4460a5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5" marL="1769040" indent="-196560">
              <a:spcBef>
                <a:spcPts val="64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6" marL="1769040" indent="-196560">
              <a:spcBef>
                <a:spcPts val="64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5123-C1CE-4C88-8DD2-9A44699DE489}" type="datetime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8368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Tiina Kämäräinen, Lapin E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4BE7-C780-48F6-9111-5532E28A5836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6600" y="2071800"/>
            <a:ext cx="8231400" cy="17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Palaute toteutuneista </a:t>
            </a:r>
            <a:br>
              <a:rPr sz="3600"/>
            </a:b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YVA-prosesseista</a:t>
            </a:r>
            <a:endParaRPr b="0" lang="en-US" sz="3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24000" y="4005360"/>
            <a:ext cx="478656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Kaivos-YVA –seminaari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Sodankylä 21.-22.11.2013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6" name="Alatunnisteen paikkamerkki 4"/>
          <p:cNvSpPr/>
          <p:nvPr/>
        </p:nvSpPr>
        <p:spPr>
          <a:xfrm>
            <a:off x="28404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Arial"/>
              </a:rPr>
              <a:t>Tiina Kämäräinen, Lapin E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0FA1-8BB6-4193-BDEF-5C90959E62CE}" type="slidenum">
              <a:rPr b="0" lang="fi-F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äivämäärän paikkamerkki 5"/>
          <p:cNvSpPr/>
          <p:nvPr/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6CC5-52A8-4CD3-AA90-E89D51EB5660}" type="datetime">
              <a:rPr b="0" lang="fi-FI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Yleisiä huomioita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9280" y="1700280"/>
            <a:ext cx="82882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YVAssa ja hankesuunnittelussa iso panostus kiviaineksen (malmi, sivukivi ja tarvekivi) ominaisuuksien selvittämiseen ja hallinnan suunnitteluun (kivien hallinta = vesien hallintaa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Vesitaseen laskeminen/muodostaminen ja sen pohjalta kunnollinen vesienhallintasuunnitelma ovat tärkeitä kaivoshankkeissa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Kaivoshankkeen YVAan tulee satsata paljon aikaa, rahaa ja työvoimaa.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Työvoimaa hyvin laajalla osaamisalueella.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Kaivosyhtiön tulee satsata tosissaan myös omia resurssejaan ja rekrytoida </a:t>
            </a: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omaa väkeä viimeistään YVA-vaiheessa.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58585a"/>
                </a:solidFill>
                <a:latin typeface="Arial"/>
              </a:rPr>
              <a:t>Ilman riittävää satsausta hankkeen ja sen eri vaihtoehtojen suunnitteluun ja niiden vaikutusten arviointiin </a:t>
            </a: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sekä haitallisen vaikutusten lieventämisen suunnitteluun homma ei toimi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6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BB02-4857-4935-818D-098816E0A20A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äivämäärän paikkamerkki 5"/>
          <p:cNvSpPr/>
          <p:nvPr/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EE1E-7413-4CED-804A-A7F6B8C9A72B}" type="datetime">
              <a:rPr b="0" lang="fi-FI" sz="1000" spc="-1" strike="noStrike">
                <a:solidFill>
                  <a:srgbClr val="58585a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latunnisteen paikkamerkki 6"/>
          <p:cNvSpPr/>
          <p:nvPr/>
        </p:nvSpPr>
        <p:spPr>
          <a:xfrm>
            <a:off x="28404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58585a"/>
                </a:solidFill>
                <a:latin typeface="Arial"/>
              </a:rPr>
              <a:t>Tiina Kämäräinen, Lapin E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373739"/>
                </a:solidFill>
                <a:latin typeface="Arial"/>
              </a:rPr>
              <a:t>Kaivos YVAt Lapissa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000" y="1989000"/>
            <a:ext cx="8288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8585a"/>
                </a:solidFill>
                <a:latin typeface="Arial"/>
              </a:rPr>
              <a:t>Yhteensä 10 kaivos-YVA –menettelyä vuosien 2000 – 2013 aikana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Kittilän kaivos; 2001, laajennus 201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Kevitsan kaivos; 2007, laajennus 2011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Suhangon kaivoshanke; 2004, laajennuksen YVA-selostus vireillä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Soklin kaivoshanke; 2009, täydennys 201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Hannukaisen kaivoshanke; YVA-selostus vireillä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Kemin kaivoksen laajennus; 2009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99B7-E820-4663-BEB7-693235E42A98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D19C-E0BE-491B-A751-3F5BCA602A61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äivämäärän paikkamerkki 7"/>
          <p:cNvSpPr/>
          <p:nvPr/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6C88-79D3-4269-A02F-28FD17380574}" type="datetime">
              <a:rPr b="0" lang="fi-FI" sz="1000" spc="-1" strike="noStrike">
                <a:solidFill>
                  <a:srgbClr val="58585a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latunnisteen paikkamerkki 8"/>
          <p:cNvSpPr/>
          <p:nvPr/>
        </p:nvSpPr>
        <p:spPr>
          <a:xfrm>
            <a:off x="28404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58585a"/>
                </a:solidFill>
                <a:latin typeface="Arial"/>
              </a:rPr>
              <a:t>Tiina Kämäräinen, Lapin E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8585a"/>
                </a:solidFill>
                <a:latin typeface="Arial"/>
              </a:rPr>
              <a:t>Palautetta YVA-ohjelmista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000" y="1700280"/>
            <a:ext cx="828828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Monesti liian yleine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Olisi hyvä miettiä minkälainen ohjelman sisällön tulisi olla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Joskus tuntunut, että ohjelma tehdään vähän kuin tahallaan hieman vajaaksi ja odotetaan, että miten siihen esim. yhteysviranomainen suhtautuu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Vaihtoehtojen käsittely monesti puutteellist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Vaihtoehtoja ei ole ohjelmavaiheessa mietitty kovin pitkälti tai niitä ei vain esitetä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Nykytilan selvitykset esitetty monesti hyvin yleisesti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ei kerrota milloin esim. vaikkapa kasvillisuuskartoitukset on tehty tai missä laajuudessa, todetaan ne vain tehdyksi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Vaikutusten rajaus epäselvää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kuinka pitkälle perustilaselvitykset tehdään tai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kuinka pitkälle vaikutukset arvioidaan.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7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B5C0-88FD-4A71-AAB1-3304D9215B0B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D61C-74DA-4028-910A-79DF747D4EF9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äivämäärän paikkamerkki 7"/>
          <p:cNvSpPr/>
          <p:nvPr/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E54F-968D-406A-8104-6E5B4D0AF0BE}" type="datetime">
              <a:rPr b="0" lang="fi-FI" sz="1000" spc="-1" strike="noStrike">
                <a:solidFill>
                  <a:srgbClr val="58585a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latunnisteen paikkamerkki 8"/>
          <p:cNvSpPr/>
          <p:nvPr/>
        </p:nvSpPr>
        <p:spPr>
          <a:xfrm>
            <a:off x="28404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58585a"/>
                </a:solidFill>
                <a:latin typeface="Arial"/>
              </a:rPr>
              <a:t>Tiina Kämäräinen, Lapin E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8585a"/>
                </a:solidFill>
                <a:latin typeface="Arial"/>
              </a:rPr>
              <a:t>Palautetta YVA-ohjelmista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000" y="1989000"/>
            <a:ext cx="82882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Kunnollinen osallistamis-suunnitelma ja todellinen halu osallistaa intressitahoja hankkeen suunnitteluun ja vaikutusten arviointiin sekä haitallisten vaikutusten lieventämisen selvittämiseen on myös keskeinen osa YVA-menettelyä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Osallistamissuunnitelman lisäksi YVA-ohjelmassa voisi olla tiedottamissuunnitelma. </a:t>
            </a: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3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C4F9-4CBF-4E97-9F6D-49685BA3BE1E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3D9B-11DC-4339-A3CD-ABD676A77042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äivämäärän paikkamerkki 5"/>
          <p:cNvSpPr/>
          <p:nvPr/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9A83-0029-4802-80C0-EAFCF9EC5DA2}" type="datetime">
              <a:rPr b="0" lang="fi-FI" sz="1000" spc="-1" strike="noStrike">
                <a:solidFill>
                  <a:srgbClr val="58585a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latunnisteen paikkamerkki 6"/>
          <p:cNvSpPr/>
          <p:nvPr/>
        </p:nvSpPr>
        <p:spPr>
          <a:xfrm>
            <a:off x="28404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58585a"/>
                </a:solidFill>
                <a:latin typeface="Arial"/>
              </a:rPr>
              <a:t>Tiina Kämäräinen, Lapin E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8585a"/>
                </a:solidFill>
                <a:latin typeface="Arial"/>
              </a:rPr>
              <a:t>Palautetta YVA-selostuksista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000" y="1988640"/>
            <a:ext cx="8288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Ongelmaksi viimeaikoina noussut YVA-selostusten laajuu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Melkeinpä tavaksi on tullut esittää kaikki mahdollinen hankkeeseen liittye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Esim. Hannukaisen YVA-selostus 690 sivua + 4 kirjaa liitteitä noin 2000 sivua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Suhanko kaivoshankkeen laajennus, selostus 530 sivua + liitteet 1500 sivua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Pitäisi kiinnittää huomio oleellisen esille tuomisee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Esim. vesistöselvityksistä esitetään monesti kaikki vanha tutkimustieto, kuitenkin johtopäätökset aineistosta ovat monesti aika yleisiä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kerrotaan tyyliin, että joku pitoisuus on ollut edellisenä vuotena korkeampi kuin tänä vuotena jne., kuitenkaan ei kerrota miksi näin on ollut.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9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827D-DC6C-482F-AA76-5800DBBDB11B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2016-E39B-4B72-894D-774296D6785F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äivämäärän paikkamerkki 7"/>
          <p:cNvSpPr/>
          <p:nvPr/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A05D-53AB-423C-9F94-FCC82C325CB2}" type="datetime">
              <a:rPr b="0" lang="fi-FI" sz="1000" spc="-1" strike="noStrike">
                <a:solidFill>
                  <a:srgbClr val="58585a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latunnisteen paikkamerkki 8"/>
          <p:cNvSpPr/>
          <p:nvPr/>
        </p:nvSpPr>
        <p:spPr>
          <a:xfrm>
            <a:off x="28404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58585a"/>
                </a:solidFill>
                <a:latin typeface="Arial"/>
              </a:rPr>
              <a:t>Tiina Kämäräinen, Lapin E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8585a"/>
                </a:solidFill>
                <a:latin typeface="Arial"/>
              </a:rPr>
              <a:t>Palautetta YVA-selostuksista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000" y="1844280"/>
            <a:ext cx="828828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Haittojen vähentämiseen ja vaikutuksiin ei kiinnitetä tarpeeksi huomiot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Johtopäätös voi olla, että hankkeella voi olla haitallisia vaikutuksia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Kuitenkin todetaan, että asiantuntija-arviona esitetään, että vaikutukset eivät ole kovin merkittäviä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Enpä ole vielä törmännyt sellaiseen hankkeeseen, jossa hankkeesta vastaava olisi esittänyt, että sillä olisi merkittäviä vaikutuksia esim. vesistöön tai muuhun”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Hankkeen riskienarviointi täytyy jo YVA-selotuksessa olla konkretian tasoll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esim. uusien prosessien toimivuuden ja päästöjen suuruuden ja laadun , pato- ja kemikaalionnettomuuksien, vuotojen jne. osalta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5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BAF6-3AA4-497D-99E4-AD573DDC8BD5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F03A-6B7B-4EA3-A57C-9F55A2C64750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äivämäärän paikkamerkki 7"/>
          <p:cNvSpPr/>
          <p:nvPr/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1371-B19C-499E-9C0E-C5A7B35B7A41}" type="datetime">
              <a:rPr b="0" lang="fi-FI" sz="1000" spc="-1" strike="noStrike">
                <a:solidFill>
                  <a:srgbClr val="58585a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latunnisteen paikkamerkki 8"/>
          <p:cNvSpPr/>
          <p:nvPr/>
        </p:nvSpPr>
        <p:spPr>
          <a:xfrm>
            <a:off x="28404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58585a"/>
                </a:solidFill>
                <a:latin typeface="Arial"/>
              </a:rPr>
              <a:t>Tiina Kämäräinen, Lapin E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42884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8585a"/>
                </a:solidFill>
                <a:latin typeface="Arial"/>
              </a:rPr>
              <a:t>Palautetta YVA-selostuksista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9440" y="2284560"/>
            <a:ext cx="82882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YVA-asetuksessa selostuksen sisältövaatimuksissa (YVAA 10 §) tuodaan esille, että tulee esittää ehdotus seurantaohjelmaksi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Kyse on YVAn seuranta ohjelmasta, ei ympäristöluvassa tarkoitetusta tarkkailuohjelmasta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Kysymys kuuluu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Missä YVA:n toteutumista seurataan, kun ei ole vaadittu missään mitään seurantafoorumia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asia on tullut esille esim. SOVA -vaikutusten  seurannan osalta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pitäisikö myös olla jopa jokin SOVA-ohjelma mitä seurataa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YVA päättyy yhteysviranomaisen lausuntoo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Hankkeen muuttuminen tai laajentuminen YVA-menettelyn aikana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Miten niihin pitäisi suhtautua.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1" name="Dian numeron paikkamerkki 2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44D3-44ED-48E6-89A9-285B9292EE8E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äivämäärän paikkamerkki 5"/>
          <p:cNvSpPr/>
          <p:nvPr/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A5CB-1D81-4055-A22C-1BFC6D9E1EEC}" type="datetime">
              <a:rPr b="0" lang="fi-FI" sz="1000" spc="-1" strike="noStrike">
                <a:solidFill>
                  <a:srgbClr val="58585a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latunnisteen paikkamerkki 6"/>
          <p:cNvSpPr/>
          <p:nvPr/>
        </p:nvSpPr>
        <p:spPr>
          <a:xfrm>
            <a:off x="28404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58585a"/>
                </a:solidFill>
                <a:latin typeface="Arial"/>
              </a:rPr>
              <a:t>Tiina Kämäräinen, Lapin E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1213920"/>
            <a:ext cx="82296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Palautetta ohjausryhmätyöskentelystä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9680" y="1928880"/>
            <a:ext cx="8288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Ilman keskustelua ja kritiikkiä ohjausryhmän työskentely tahtoo näivettyä ja jäsenet jopa lopulta välttelevät siellä käyntiä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Alussa innostus saattaa olla hyvinkin suurta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Useasti ryhmässä käy lopulta niin, että vain YV. on äänessä ja muut kommentoivat lähinnä substanssiinsa liittyviä asioita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Ohj. ryhmän jäsenet usein huonosti perehtyneet hankkeesee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ohj. ryhmän jäsenten pitäisi pystyä kehittämään hanketta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Ohjausryhmän kritiikittömyys hanketta kohtaa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Ollaan kuulolla!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Kuntien, lautakuntien edustajat eivät aina oikein tiedä asemaansa jos ovat ohjausryhmässä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8585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8585a"/>
                </a:solidFill>
                <a:latin typeface="Arial"/>
              </a:rPr>
              <a:t>miksihän kuntien edustaja ohjausryhmässä on useimmiten muu kuin esim. ympäristölautakunnan edustaja?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6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D9EB-42E2-4B95-AA98-4EAA8B074801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äivämäärän paikkamerkki 5"/>
          <p:cNvSpPr/>
          <p:nvPr/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A2C6-387F-44CF-9C0E-F144EE4AA7ED}" type="datetime">
              <a:rPr b="0" lang="fi-FI" sz="1000" spc="-1" strike="noStrike">
                <a:solidFill>
                  <a:srgbClr val="58585a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latunnisteen paikkamerkki 6"/>
          <p:cNvSpPr/>
          <p:nvPr/>
        </p:nvSpPr>
        <p:spPr>
          <a:xfrm>
            <a:off x="28404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58585a"/>
                </a:solidFill>
                <a:latin typeface="Arial"/>
              </a:rPr>
              <a:t>Tiina Kämäräinen, Lapin E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8585a"/>
                </a:solidFill>
                <a:latin typeface="Arial"/>
                <a:ea typeface="ＭＳ Ｐゴシック"/>
              </a:rPr>
              <a:t>Palautetta asiantuntijalausunnoista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000" y="1844640"/>
            <a:ext cx="82882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Ovatko asiantuntijatahot  aina tiedostaneet, että heiltä pyydetään lausuntoa nimenomaan asiantuntijan roolissa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Lausunnoissa saatetaan tuoda suurin piirtein kaikki puutteet mitkä hankkeeseen liittyvät eli silloin pitää yv:n miettiä, että onko selostus riittävä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585a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8585a"/>
                </a:solidFill>
                <a:latin typeface="Arial"/>
              </a:rPr>
              <a:t>Saatetaan esittää myös aivan uusia, laajoja,  kalliita seurantoja perustilaselvityksiin ja vaikutusten arvioimiseksi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1" name="Dian numeron paikkamerkki 5"/>
          <p:cNvSpPr/>
          <p:nvPr/>
        </p:nvSpPr>
        <p:spPr>
          <a:xfrm>
            <a:off x="8211960" y="6354720"/>
            <a:ext cx="400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5D1B-5F0F-4DC8-ADB5-5FEE35E6DE80}" type="slidenum">
              <a:rPr b="0" lang="fi-FI" sz="10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äivämäärän paikkamerkki 5"/>
          <p:cNvSpPr/>
          <p:nvPr/>
        </p:nvSpPr>
        <p:spPr>
          <a:xfrm>
            <a:off x="6710400" y="6354720"/>
            <a:ext cx="1357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DA05-FD65-48A9-95C9-F0F7918E5847}" type="datetime">
              <a:rPr b="0" lang="fi-FI" sz="1000" spc="-1" strike="noStrike">
                <a:solidFill>
                  <a:srgbClr val="58585a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latunnisteen paikkamerkki 6"/>
          <p:cNvSpPr/>
          <p:nvPr/>
        </p:nvSpPr>
        <p:spPr>
          <a:xfrm>
            <a:off x="284040" y="6354720"/>
            <a:ext cx="6356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58585a"/>
                </a:solidFill>
                <a:latin typeface="Arial"/>
              </a:rPr>
              <a:t>Tiina Kämäräinen, Lapin E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1:42:02Z</dcterms:created>
  <dc:creator>eta</dc:creator>
  <dc:description/>
  <dc:language>en-US</dc:language>
  <cp:lastModifiedBy>Tiina Kämäräinen</cp:lastModifiedBy>
  <dcterms:modified xsi:type="dcterms:W3CDTF">2013-11-25T07:15:38Z</dcterms:modified>
  <cp:revision>69</cp:revision>
  <dc:subject/>
  <dc:title>Powerpoint-pohja, PPT200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ihealue">
    <vt:lpwstr>Viestintä</vt:lpwstr>
  </property>
  <property fmtid="{D5CDD505-2E9C-101B-9397-08002B2CF9AE}" pid="3" name="ContentType">
    <vt:lpwstr>Asiakirja</vt:lpwstr>
  </property>
  <property fmtid="{D5CDD505-2E9C-101B-9397-08002B2CF9AE}" pid="4" name="Dokumenttityyppi">
    <vt:lpwstr>Esitysmateriaali</vt:lpwstr>
  </property>
  <property fmtid="{D5CDD505-2E9C-101B-9397-08002B2CF9AE}" pid="5" name="Julkaisija2">
    <vt:lpwstr>;#TEM;#</vt:lpwstr>
  </property>
  <property fmtid="{D5CDD505-2E9C-101B-9397-08002B2CF9AE}" pid="6" name="Organisaatio">
    <vt:lpwstr>Viestintätyöryhmä</vt:lpwstr>
  </property>
  <property fmtid="{D5CDD505-2E9C-101B-9397-08002B2CF9AE}" pid="7" name="Varsinainen tekijä">
    <vt:lpwstr/>
  </property>
</Properties>
</file>